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3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3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3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0FF4-E028-4F9C-8515-5AD12FFAE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2320-822E-4E95-9F95-B85BC84AC46E}" type="slidenum">
              <a:rPr b="0" lang="en-GB" sz="1200" spc="-1" strike="noStrike">
                <a:solidFill>
                  <a:srgbClr val="1d1756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1d175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5D04-E495-48DD-9DC9-862FDF186ED6}" type="slidenum">
              <a:rPr b="0" lang="en-US" sz="1200" spc="-1" strike="noStrike">
                <a:solidFill>
                  <a:srgbClr val="1d17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d175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AA6B8-0CA3-44C8-AA4F-DAA3DE1FBE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CC224-D2B9-41D7-8E81-A365ACE9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852CD9-6ACA-4301-BE50-C4257B0A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7D9349-9C80-41F1-A6EF-F9CFFF3D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54CFF3-E137-4D2A-BD6A-1F452AAB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94ECBE-06AB-4FCB-8D56-79998701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D1B876-6A36-4F8E-86E4-2AEB9D46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2B1BDD-9E38-4DA3-B733-0E1889DC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76B810-AE1E-426B-ACC9-68247110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C45493-456C-4445-9469-675B4F51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1EC2CB-793F-4BCE-84C3-A80D19F0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932C4C-4DD7-4D82-B6C7-4C289577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0671-A2D6-4732-87A4-1C19D820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08B265-422B-40E8-BD78-759C00D7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1AE76B-FF04-4CF2-94BB-12DE198A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B9137C-89A5-4766-BC86-DCAE60AF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27925A-7BE0-4E1F-91BF-F83F1CD5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46A476-F064-41D7-9E47-D67689C3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2EE0EA-C453-4E9E-B3B7-91CC24BD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25183F-4243-4356-B675-40E0B95D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BD9594-BB13-4174-9C16-27AAABF4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F17E71-0D36-478C-A4BA-598C2BB1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007AEA-FA17-4CCF-A4F7-F8AC194B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94BE5-73C6-4187-991C-603879A8E3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BC685D-293D-42C2-BAC6-630DDF68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5FE842-F110-4111-B79B-434AB295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345057-E359-4385-8A63-B9CBCC6C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91489B-A7AE-41C3-B166-540C656F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2ACC72-B5E2-4521-8779-C4B7384E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98DF11-E513-4AB9-B600-CCB1A393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9F5036-EB3C-4131-9BE0-50282A56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F72417-5291-4471-B368-16ABF6C7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8A9721-05DA-4BAF-B36B-7AB42D2B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065C30-235A-4796-8AF8-4664303C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5296D-4DEE-4F8C-9599-A7B3DD40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67A8C8-2764-49A0-92BE-619D6149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EA9B97-E14D-46FC-B726-E6667AAD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C4591A-E73E-4BDA-B71A-CDAB9A4B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072EB7-DF87-4F05-903F-F4273BA9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39E20C-A531-41DD-9ADC-33E25287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0C2DE8-EA0E-4F4E-97D7-65B0B022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9FD9E3-F892-47FD-BA1A-EA1167D8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4A8721-1C67-44C0-A3D4-85719947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AC0425-764D-4223-957A-B51426DC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E77C6C-72E3-4F41-8D7F-5E3EF365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D4C53-4DF8-468A-9B5A-34161EDD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6E2B4D-8EF3-4D52-93ED-415A00E1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E10F3E-B057-43EA-BA08-2EAD60D6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3BC958-4A27-42B6-BEAD-EFA214FC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33A185-E5D9-4FA5-A93A-6C84DBB8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167229-5285-4AC8-AD5C-5ACDEE5D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CA932-1DE5-4161-AFD8-B9A40033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02006-C824-4631-863D-38100459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FA826-26EB-47E6-B0DB-F1FE8A6F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6DBF1-D080-4B5A-848F-2D664FB7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F59B1-7F42-4492-88AB-27936D55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44263-45D6-44A3-9D41-A0FA6567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99AC8-CB8A-44BC-B56E-EC87AB39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CEA5C-DD52-46F8-9969-F8801F7A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68593-40F5-4DCD-8B6F-21B3BB03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3E2D2-96E6-4AF1-A789-C2D399B7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09C58-EB4E-45A2-AC32-AAB1C769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D2939-460B-43BB-BF5D-E57CD2A4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9A5E0-8711-41CB-A799-0BA21CE5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973F0-21D5-4287-B81F-029E0DA2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EE967-AE97-4985-84AD-D7FE0568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0A774-7B7B-47D7-90CC-87089D73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282E6-FA75-4A06-8F21-4B255A63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E430B-1152-4343-8D2A-0EC443B9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ED9A1-5B99-4B65-B6D9-8103D00D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1A74D-595A-4541-8782-3B830CB3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3B30C-17F7-44F2-87C1-483E218F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6D6AE-5D49-476B-B57E-50FC1DAC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D9091-B5B4-4A2E-B951-42CCF16E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2BB3F-9197-47E6-916A-6A9A7AAC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F662A4-53A0-44C1-AA05-E7D00EFD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5CD00A-4683-46FB-BE87-EBB11A3F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977B05-E822-468C-86D5-13C21EA6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A14FD-9846-487B-BFA0-79082826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17E3E8-2062-48AF-BC0C-01B4A696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A2A4CF-7C5A-4185-AFE1-E7D524EB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CC4BC0-D45D-44AF-8200-A6391FDA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E4BDCA-2EF5-4AE3-A8A9-A82617C8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8E4989-8221-4B77-8069-F7B8F655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F75A1C-08DE-4B4C-A568-B0A05CB9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DE7AC1-AF60-4F7A-9EA2-86E79200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65C7C8-C05E-41BB-875E-9C6A7B51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396732-F53D-4DC0-AE17-FCB3B30E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4ADB6E-99BB-488B-86F6-DD86B67C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169D4-5E72-49AA-8461-99EC37E9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1B1009-6CDE-459D-9433-CFDA0C22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B0FF3-27F3-46B2-85DE-4DF3EF66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585CD-E1A9-45D5-BE6E-B7F8F981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F99097-E1B4-47A4-80D6-5D6C93EF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513907-0142-4C63-ACAB-6D824E02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70208-C531-4BF7-9C86-C76ADFBB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E2DA0-6BC9-4347-90AE-86B971D4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E35C7B-F0C5-4491-A587-01B7FB80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D76E1-AF2F-4BAA-9F84-1481C636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BC1D0-FFA0-4029-9142-820188BC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47FB8-C076-45C3-BCF7-2F7573E5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96E208-EA6E-4679-842A-E878320A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692B80-474F-4932-A681-047AB93A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EBD146-013D-4DEB-8CC7-163FC741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18BC3B-4BE6-4851-AD0A-7B2468E5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C19751-2E0F-4CB7-8461-9BFE52B2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E81E7C-5354-484B-984D-0730887F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41FD09-63AF-46B7-82CC-5B566253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753A34-F24D-4D82-BD6C-3A41A552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8B50C-9665-4C01-A885-11820948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9FDB2E-FCB7-4D89-BC5B-BB554CBB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758E-2A07-470C-84A6-9D75BC29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43C806-5B1B-461D-9A08-818B2158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FA32EB-D52B-480C-ACC9-750F1499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5C0E73-DF9C-47B7-9B3D-A794CBB9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372E8A-FEE1-4A63-8538-6715BDD5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077727-8AF2-4882-873F-A4271110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D2D49C-90DC-4FA8-90ED-84558726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35A238-20E5-4809-AD05-4C94631D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31E26A-BAB7-4E0C-99E2-FB82ACF8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B2E831-49AA-47D5-A6D2-658DE3AB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0C24FB-BDFD-4E7A-AF1D-740AB5D9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87C3C-E129-454F-85A8-C4FE7CD5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6ADEAD-8F8C-4F16-A05C-DD488A78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A48B23-7F7F-4ACC-99E0-B76EC0C7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0FEAB3-9BB2-431B-9755-447BDE2D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C3BC5A-6439-4AB7-BE65-B2CBBCBF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BDBE36-50D1-45DF-BAA8-43177FBB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8AFF89-4D7F-4301-BB02-435F9C99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E8EDCC-F69D-459E-B739-AFED2AC9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D9E363-F619-4A3B-9FD0-BD579F2B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537B1F-099C-4748-B944-A1B9C72B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E6552D-E430-4F55-9ED4-2F101372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19E35-927C-48A2-B0FE-935DF5B6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AC8F54-3708-4982-B5A1-7E5E7948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0F4605-278F-4F35-BBE1-401258FF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D73CDE-DB9E-4997-B3B1-B1577EE2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ADB41D-F9CA-4B5E-BCDE-A2F7D08D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A0C423-F6FE-4CBB-9B52-6B5CF137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C03E07-9A4D-4DC1-99B5-9D662847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EBCB6A-9BCC-45DD-B0C3-ACEBFCF9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E76630-41F3-4DF1-90E3-729E3138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4C4518-4111-405E-9F74-E54EE121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0C0DEE-8E99-4F43-AFBA-865E3D63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0D11-F61C-4276-BC85-6E6C5D7F8C15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7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9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C187-6406-415D-B7E4-00819B766DE3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2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AD34-FB01-45F1-AA93-6A319865CFD5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3"/>
          </p:nvPr>
        </p:nvSpPr>
        <p:spPr>
          <a:xfrm>
            <a:off x="3505320" y="632412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4"/>
          </p:nvPr>
        </p:nvSpPr>
        <p:spPr>
          <a:xfrm>
            <a:off x="58672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5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B5A9-1748-45B2-8C72-483495C02C7B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25E1-5A73-4F7A-8053-52A28F343436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1D18-92CF-4B22-B1B1-3CC4EFB11341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1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4A2E-25C8-4AF7-8B79-4BB06D875B31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459B-AABA-4E1D-9D5F-9A34BBD37768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5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7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22A8-3860-4B44-9D85-7A2683B93F8C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8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0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8132-B5DE-426D-B83A-869930B1AA02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1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3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6824-3AD2-44CE-97A0-016575A14B7F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4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6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337D-9F3B-42FA-B477-8749D8F07849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304920" y="228600"/>
          <a:ext cx="8610480" cy="6323040"/>
        </p:xfrm>
        <a:graphic>
          <a:graphicData uri="http://schemas.openxmlformats.org/drawingml/2006/table">
            <a:tbl>
              <a:tblPr/>
              <a:tblGrid>
                <a:gridCol w="4190760"/>
                <a:gridCol w="4419720"/>
              </a:tblGrid>
              <a:tr h="623880">
                <a:tc gridSpan="2"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                </a:t>
                      </a:r>
                      <a:r>
                        <a:rPr b="1" lang="en-US" sz="3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mall Group Lesson</a:t>
                      </a:r>
                      <a:endParaRPr b="0" lang="en-US" sz="3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04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Calibri"/>
                          <a:ea typeface="ＭＳ Ｐゴシック"/>
                        </a:rPr>
                        <a:t>                                      </a:t>
                      </a: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Calibri"/>
                          <a:ea typeface="ＭＳ Ｐゴシック"/>
                        </a:rPr>
                        <a:t>Group 1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Calibri"/>
                          <a:ea typeface="ＭＳ Ｐゴシック"/>
                        </a:rPr>
                        <a:t>Group 2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584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Learning Objective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udents will be able to name few basic two-dimensional shapes.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Activity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raw Shapes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imes New Roman"/>
                          <a:ea typeface="ＭＳ Ｐゴシック"/>
                        </a:rPr>
                        <a:t>Procedure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introduce the shapes (triangle and square) to the students. 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then demonstrate how to use the straws to form triangle and square.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invite students to create shapes with the straws to match a shape they see on the table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udents will take turn to pick two shapes and name them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Materials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ITC-M42, geometric  shapes (tangrams), and straws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andard 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M 4.4.2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CCO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21 b. 3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Learning Objective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udents will be able to identify and describe basic shapes when moved, turned, and flipped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Activity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raw Shapes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imes New Roman"/>
                          <a:ea typeface="ＭＳ Ｐゴシック"/>
                        </a:rPr>
                        <a:t>Procedure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invite the students to take a look at the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angrams (triangle, square, and rectangle) let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udents explore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talk about the names of the shapes and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what their attributes are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invite students name shapes when moved,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urned, and flipped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invite students to make their own shapes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and describe the shapes when moved, turned and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flipped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Materials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ITC-M42 : geometric  shapes(tangrams) and straws/pipe cleaners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andard 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M. 4.4.2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CCO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21b. 5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304920"/>
            <a:ext cx="8494560" cy="64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756"/>
                </a:solidFill>
                <a:latin typeface="Constantia"/>
              </a:rPr>
              <a:t>Sample WGL Plan </a:t>
            </a:r>
            <a:endParaRPr b="0" lang="en-US" sz="2400" spc="-1" strike="noStrike">
              <a:solidFill>
                <a:srgbClr val="1d1756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756"/>
                </a:solidFill>
                <a:latin typeface="Constantia"/>
              </a:rPr>
              <a:t>(PreK-</a:t>
            </a:r>
            <a:r>
              <a:rPr b="1" lang="en-US" sz="2000" spc="-1" strike="noStrike">
                <a:solidFill>
                  <a:srgbClr val="1d1756"/>
                </a:solidFill>
                <a:latin typeface="Calibri"/>
              </a:rPr>
              <a:t>4)</a:t>
            </a:r>
            <a:endParaRPr b="0" lang="en-US" sz="20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756"/>
                </a:solidFill>
                <a:latin typeface="Constantia"/>
              </a:rPr>
              <a:t>Activity:  Trees Count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</a:rPr>
              <a:t>Learning Objective: Students will recognize words that rhyme in a text.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</a:rPr>
              <a:t>Procedures: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1d175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T will remind children that rhyming words have the same ending sound.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1d175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T will read pg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 3 </a:t>
            </a: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and emphasize the words that rhyme (fun/one) and children will repeat the words.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1d175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T will read each page and ask children to say the words that rhyme.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1d175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T will close the lesson by asking children to recall rhyming words from the text 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1d175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If children are able, T will ask them to </a:t>
            </a:r>
            <a:r>
              <a:rPr b="1" i="1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produce</a:t>
            </a: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 additional rhyming words.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</a:rPr>
              <a:t>Materials: Trees Count (Big book)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</a:rPr>
              <a:t>TCCO: 15a (Notices and discriminates rhyme) 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756"/>
                </a:solidFill>
                <a:latin typeface="Constantia"/>
              </a:rPr>
              <a:t>RF.PK.2a (</a:t>
            </a:r>
            <a:r>
              <a:rPr b="0" lang="en-US" sz="1800" spc="-1" strike="noStrike">
                <a:solidFill>
                  <a:srgbClr val="1d1756"/>
                </a:solidFill>
                <a:latin typeface="Constantia"/>
              </a:rPr>
              <a:t>Recognize and produce simple rhyming words)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15:40:28Z</dcterms:created>
  <dc:creator>ggarbeck</dc:creator>
  <dc:description/>
  <dc:language>en-US</dc:language>
  <cp:lastModifiedBy>Asma, Farida</cp:lastModifiedBy>
  <cp:lastPrinted>2014-11-04T20:09:28Z</cp:lastPrinted>
  <dcterms:modified xsi:type="dcterms:W3CDTF">2015-09-10T06:12:58Z</dcterms:modified>
  <cp:revision>193</cp:revision>
  <dc:subject/>
  <dc:title>Slide 1</dc:title>
</cp:coreProperties>
</file>